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A98F-5990-4729-8B22-6E533231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FA10-873D-4D77-8559-2FFBC990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2F0-22C8-470D-B1A3-B56AB30C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293-21D6-427D-8938-DD09D64E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BF6E-9010-4732-9D77-40825B33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54C5-6775-4BCB-956E-997231C5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6D1E-E15B-437A-83DE-D5262904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9394-E792-441B-B579-86AE7011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E191-2812-4DD9-8C03-202ACDC7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B75E-5C05-433D-90C4-6D5A57D2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3545-0DBA-4C67-8D6F-B3183D64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6B21-0CD0-4354-B611-29E7698A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5586-9564-4DEA-AC38-5562FC39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A089-1397-425F-93FB-CF4D34EB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66FA-1B0D-4BCB-9AF3-9E4FFF71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9F19-E509-48DD-953C-C6941EC2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F04B-01A8-4450-AE95-A3953340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ED6-FAF1-4A86-8567-38B8D043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611-1E85-4F2E-A457-E6B1CCF2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3702-4F59-41A0-BE3D-F65B9F8A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71B-8530-4838-AE82-421BB6D6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A4C-3AE5-44E8-9A04-0F1136CC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E68B-2814-4B4D-A731-993C537A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83D-BCC1-4324-8D50-41C68E16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1E9F-E3B5-4F3F-8F09-8F4FB081372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7934-1DB6-4F68-B3CE-9F431CCC891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34D6-C62B-471C-885D-9B9BA25443F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1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6419-DF4B-46C7-9CCB-6AC70046FBB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349000"/>
            <a:ext cx="6707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ировая экономика и международная торговл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92360" y="18900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9CE5-5CB4-4363-979A-3C46BCEB1E0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D7A8BDA-D64D-4D85-B2AE-B3303D10C1BE}" type="datetime1">
              <a:rPr lang="en-US"/>
              <a:t>07/31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476280"/>
            <a:ext cx="7908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ОТЕХНОЛОГИЧЕСКИЕ ТЕОРИИ М-Н ТОРГОВЛ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268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теории объясняют, например,  причины торговли между странами, притом что структура и техническая характеристика факторов производства у них схож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492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мках этих теорий учитываются возможности новой развивающейся техники и технолог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284640"/>
            <a:ext cx="1873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Крупносерий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284640"/>
            <a:ext cx="266508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себестоим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единицы  продук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3284640"/>
            <a:ext cx="21589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ц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645000"/>
            <a:ext cx="574920" cy="144360"/>
          </a:xfrm>
          <a:prstGeom prst="rightArrow">
            <a:avLst>
              <a:gd name="adj1" fmla="val 50000"/>
              <a:gd name="adj2" fmla="val 9956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3573360"/>
            <a:ext cx="574920" cy="144720"/>
          </a:xfrm>
          <a:prstGeom prst="rightArrow">
            <a:avLst>
              <a:gd name="adj1" fmla="val 50000"/>
              <a:gd name="adj2" fmla="val 993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508640"/>
            <a:ext cx="8207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сты обращают внимание на непрерывные технологические изменения, осуществляемые фирмами с целью формирования конкурентных преимуще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, например, Голландия экспортирует цветы на сумму более 1 млрд долл. в год, используя усовершенствованные теплицы, отапливаемые электричеством или газом, и авиатранспорт для доставки товара потребител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B21-02F9-41F7-B665-27CF6D86E34E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DBE31-F2A5-4766-8BA7-B37EA91F52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ономерности развития миров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060640"/>
            <a:ext cx="8137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ая торговля растет очень быстро, экспортные доли стран в объеме ВВП увеличиваются. В 1950г. мировой экспорт товаров и услуг составлял 13% мирового ВВП, в 2000г. – 17,1%, в 2015г., по прогнозу, составит 18,7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астает доля готовой продукции, особенно высокотехнологичной, наукоем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стро растут цены машин и оборудования, выпускаемые ведущими странами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ижение спроса развитых стран на сырье и продовольствие, производимые развивающимися странами. Их положение в мировой торговле ухудшается. Выгодность внешней торговли для развитых стран рас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ение мирового рынка услуг, особенно туристских, транспортных, финансовых, в сфере передачи технологии. Лидеры – развитые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8E9-A547-40B2-96A1-85FBE627605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4A2E0-D86C-45A8-A1EF-9704DFFC0C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802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яя торговля Росс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822240"/>
            <a:ext cx="8207280" cy="60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чение внешней торговли выросло. В 2003г. экспорт товаров составил 135,9 млрд долл., и увеличился на 26,2% по сравнению с уровнем 2002г., импорт вырос на 23,6% и равнялся 75,4 млрд долл. Увеличилась доля экспорта в ВВП. Россия перешла к более рациональным связям, крупнейшие ее партнеры – Германия, США, Итал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ля России в мировой торговле снижается. Ее внешнеторговый оборот составляет около 1% от мирового по сравнению с 3% во второй половине 80-х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благоприятна товарная структура внешней торговли. Более половины экспорта – невоспроизводимые сырьевые товары с низкой степенью обработки, цветные и черные металлы, электроэнергия, минеральные удобрения, каменный уголь, лес. Вывоз машин и оборудования – около 5%. На 70-75% поступление валюты связано с экспортом сырь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портируется оборудование и машины - около трети стоимости импорта, продовольствие, с/х сырье, медикаменты, одежда, обувь, тка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086-2A1C-46B6-8FA1-9BB1CF82266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75053-DD3F-4018-9399-3B344FCE07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802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ы международн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62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коммерческие операции, оплата в валюте – основное мес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тречная торговля: оплата поставок осуществляется встречными поставками товаров (бартер, компенсационные сделки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3141720"/>
            <a:ext cx="13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БАРТЕ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3141720"/>
            <a:ext cx="56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ДЕЛКА НА ОСНОВЕ НАТУРАЛЬНОГО ОБМ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ОВАРАМИ БЕЗ ДЕНЕЖНОГО РАСЧЕ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40766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оссии бартер составляет от 11 до 14%. Самый большой бартерный оборот с Китаем, Германией, Швейцарией, Венгрией (экспорт рыбы, каменного угля, чугуна, жел.руды, импорт сахара, мясных консервов, легковых автомобилей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1280" y="4941720"/>
            <a:ext cx="3838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Компенсацион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сдел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15772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тавка оборудования на условиях кредита, который погашается поставками продукции, выпущенной на этом оборудовании и т.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573408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845-2125-41B8-BFBB-9F1E89746BC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A950D-2CAA-4E9B-9E56-C79E10AA8B9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68360" y="333360"/>
            <a:ext cx="49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ы м-н торговли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907920"/>
            <a:ext cx="741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сделки с экспортер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ование посредников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дистрибьют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комиссион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агентов (биржевая торговл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05000"/>
            <a:ext cx="506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делок на биржах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2852640"/>
            <a:ext cx="7777080" cy="33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делки на реальный товар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дполагают его поставку немедленно, т.е. в срок до 15 дней (сделка кэш или спот), или поставка в будущем (форвард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рочные (фьючерсные) сдел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сделки, которые не предусматривают обязательства сторон поставить или принять реальный товар, а предполагают куплю или продажу прав на товар, т.е.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фьючерсных контрак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Результат сделки – уплата или получение разницы между ценой контракта в день его заключения и ценой в день исполнения. Целью является не получение товара, получение спекулятивной прибыли за счет разницы цен или застраховаться от потерь в случае изменения ц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CEE2-77E7-4628-828E-0744B44A06A1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2D817-685D-49BB-A133-5C96F5E0229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55640" y="692280"/>
            <a:ext cx="77040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3. Международные торг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на мировых рынках строительных услуг, при поставках дорогого оборудования. Заказ получает фирма, предложившая лучшие условия его выполн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4. Международные аукцион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На них реализуются товары, обладающие индивидуальными свойствами: пушно-меховые изделия, произведения искусства и т.п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5. Электронная коммерция</a:t>
            </a:r>
            <a:r>
              <a:rPr b="0" lang="ru-RU" sz="2000" spc="-1" strike="noStrike">
                <a:solidFill>
                  <a:srgbClr val="ff99ff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например, сбыт энергоносителей на международной нефтяной бирже в Лондоне, Нью-Йоркской и Гонконгской фьючерсных бирж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760-4F14-48B0-81C0-215330DB6503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AD54E-D68E-4E7E-BB99-FA6AE421ADF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Роль ООН в мировой экономик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ятельность шести основных органов ООН регламентирует Десятая глава Устава. Одним из них, непосредственно связанным с международными экономическими отношениями, является ЭКОКОС - Экономический и социальный совет ООН, под эгидой которого действует и большинство других экономических органов этой организац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функции ЭКОКОС входит организация исследований и подготовка различного рода докладов и рекомендаций по самому широкому спектру международных экономических, социальных, культурных и сопряженных с ними вопро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90A-085E-4009-B707-281B9129FF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548EC-A3C8-4017-B372-E66EB6E7146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ферой деятельности ЭКО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ется рассмотрение следующих вопросов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мирового экономического и социального положения и международная торговл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окружающей сред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опросы оказания экономической и научной помощи развивающимся странам, а также аспекты состояния в них продовольственной проблем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проблем социально-экономической статистики, народонаселения и природных ресурсо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а планирования и мобилизации финансовых ресурсов, а также роли государственного и кооперативного секторов в экономике развивающихся стра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регионального сотрудни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D69-986A-4E9B-89AC-2E0982CA7DC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BF2B6-3027-427D-AB8A-62C25BE981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60280"/>
            <a:ext cx="8424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ренция ООН по торговле и развитию (ЮНКТАД) - международный орган, призванный регулировать всемирные торговые отнош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иболее важные требования к участникам международной торговли разрабатываются ГАТТ (Генеральное соглашение по торговле и тарифам) - они выполняют приоритетную роль и при разработке документов ЮНКТАД. С 1997 года ГАТТ решением ее участников было преобразовано во Всемирную торговую организацию, как специализированное учреждение ОО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B00-9ED1-441E-A9CA-2F38832F391B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00BCE-BBBB-4A4D-9B05-BD97E58EC4E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Futures contract; Futu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ный контракт - контракт на покупку или продажу товара (финансового актива) с поставкой на будущую дату. Фьючерсный контракт предусматривает строго определенное количество товара установленного вида с минимально допустимыми отклонениями, поставляемого на определенных условиях оплаты накладных или транспортных расход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ка по продаже (покупке) фьючерсного контракта обязательно регистрируется расчетной палатой бирж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2124000" y="6381720"/>
            <a:ext cx="1008000" cy="476280"/>
          </a:xfrm>
          <a:custGeom>
            <a:avLst/>
            <a:gdLst>
              <a:gd name="textAreaLeft" fmla="*/ 30600 w 1008000"/>
              <a:gd name="textAreaRight" fmla="*/ 977400 w 1008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5696" h="21600">
                <a:moveTo>
                  <a:pt x="0" y="0"/>
                </a:moveTo>
                <a:lnTo>
                  <a:pt x="45696" y="0"/>
                </a:lnTo>
                <a:lnTo>
                  <a:pt x="45696" y="21600"/>
                </a:lnTo>
                <a:lnTo>
                  <a:pt x="0" y="21600"/>
                </a:lnTo>
                <a:close/>
              </a:path>
              <a:path fill="lightenLess" w="45696" h="21600">
                <a:moveTo>
                  <a:pt x="0" y="0"/>
                </a:moveTo>
                <a:lnTo>
                  <a:pt x="45696" y="0"/>
                </a:lnTo>
                <a:lnTo>
                  <a:pt x="44296" y="1400"/>
                </a:lnTo>
                <a:lnTo>
                  <a:pt x="1400" y="1400"/>
                </a:lnTo>
                <a:close/>
              </a:path>
              <a:path fill="darken" w="45696" h="21600">
                <a:moveTo>
                  <a:pt x="45696" y="0"/>
                </a:moveTo>
                <a:lnTo>
                  <a:pt x="45696" y="21600"/>
                </a:lnTo>
                <a:lnTo>
                  <a:pt x="44296" y="20200"/>
                </a:lnTo>
                <a:lnTo>
                  <a:pt x="44296" y="1400"/>
                </a:lnTo>
                <a:close/>
              </a:path>
              <a:path fill="darkenLess" w="45696" h="21600">
                <a:moveTo>
                  <a:pt x="4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6" y="20200"/>
                </a:lnTo>
                <a:close/>
              </a:path>
              <a:path fill="lighten" w="4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6" h="21600">
                <a:moveTo>
                  <a:pt x="15842" y="10800"/>
                </a:moveTo>
                <a:lnTo>
                  <a:pt x="29855" y="3794"/>
                </a:lnTo>
                <a:lnTo>
                  <a:pt x="29855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543-B3C3-4570-A69C-028A3050E72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E0052-B8F0-465F-8C02-D953D0BB25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ировая экономи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26828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ую экономику можно определить как совокупность национальных хозяйств и негосударственных структур, объединенных международными отношен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ая экономика возникла благодаря международному разделению труда, что повлекло за собой как разделение производства (то есть международную специализацию), так и его объединение — кооперац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характеристи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ерархичность (наличие наднациональных институтов, например ООН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уровнев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укту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равномерность распределения экономической мощи (на 32 развитые страны мира приходится 80% мировой покупательной способности граждан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определенного мирового поряд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A6B-D7D1-40F0-A820-64D79324EF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751CA-AEA4-4F0B-B5DD-8C2B16FD4F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ятельность дистрибьютора состоит в том, что он делает оптовую закупу товара и реализует его на региональных рынках. Одновременно дистрибьютор оказывает консультационные и маркетинговые услуги, при необходимости занимается установкой оборудования. То есть, фактически, дистрибьютор – продавец, торговый представитель фир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2124000" y="623736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65" h="21600">
                <a:moveTo>
                  <a:pt x="11776" y="10800"/>
                </a:moveTo>
                <a:lnTo>
                  <a:pt x="25789" y="3794"/>
                </a:lnTo>
                <a:lnTo>
                  <a:pt x="25789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88EA-F5B9-43C5-995D-E79BBE15FF3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F9A5E-F9B6-411C-8D72-46A59C1CAD0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ИССИОНЕР — посредник в торговых сделках; лицо, выполняющее за особое вознаграждение торговые поручения от своего имени, но за счет комитен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1547640" y="6237360"/>
            <a:ext cx="936720" cy="620640"/>
          </a:xfrm>
          <a:custGeom>
            <a:avLst/>
            <a:gdLst>
              <a:gd name="textAreaLeft" fmla="*/ 39960 w 936720"/>
              <a:gd name="textAreaRight" fmla="*/ 896760 w 936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2594" h="21600">
                <a:moveTo>
                  <a:pt x="0" y="0"/>
                </a:moveTo>
                <a:lnTo>
                  <a:pt x="32594" y="0"/>
                </a:lnTo>
                <a:lnTo>
                  <a:pt x="32594" y="21600"/>
                </a:lnTo>
                <a:lnTo>
                  <a:pt x="0" y="21600"/>
                </a:lnTo>
                <a:close/>
              </a:path>
              <a:path fill="lightenLess" w="32594" h="21600">
                <a:moveTo>
                  <a:pt x="0" y="0"/>
                </a:moveTo>
                <a:lnTo>
                  <a:pt x="32594" y="0"/>
                </a:lnTo>
                <a:lnTo>
                  <a:pt x="31194" y="1400"/>
                </a:lnTo>
                <a:lnTo>
                  <a:pt x="1400" y="1400"/>
                </a:lnTo>
                <a:close/>
              </a:path>
              <a:path fill="darken" w="32594" h="21600">
                <a:moveTo>
                  <a:pt x="32594" y="0"/>
                </a:moveTo>
                <a:lnTo>
                  <a:pt x="32594" y="21600"/>
                </a:lnTo>
                <a:lnTo>
                  <a:pt x="31194" y="20200"/>
                </a:lnTo>
                <a:lnTo>
                  <a:pt x="31194" y="1400"/>
                </a:lnTo>
                <a:close/>
              </a:path>
              <a:path fill="darkenLess" w="32594" h="21600">
                <a:moveTo>
                  <a:pt x="32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4" y="20200"/>
                </a:lnTo>
                <a:close/>
              </a:path>
              <a:path fill="lighten" w="32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4" h="21600">
                <a:moveTo>
                  <a:pt x="9291" y="10800"/>
                </a:moveTo>
                <a:lnTo>
                  <a:pt x="23304" y="3794"/>
                </a:lnTo>
                <a:lnTo>
                  <a:pt x="23304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A4E-E050-4908-89DD-DBA902A278D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40FAA-E31D-4440-B1CF-466F313A874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0" r="3969" b="0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AAC-1415-4222-8584-480D94C1FE63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2C737-4CCE-4746-A9AD-212EE46E4BA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518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Направления и формы международных экономических отношений: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торговля товарами, работами, услуг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специализация производства и научно-технических работ, или международный научно-технический обмен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бмен научно-техническими результат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информационные, валютно-финансовые и кредитные связи между стран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капитала (инвестиции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(миграция) рабочей силы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еятельность международных экономических организаций, хозяйственное сотрудничество в решении глобальных пробл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FF0-B77C-4BA7-8B27-535F3D206C5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72A6A-50C1-46C9-BDBF-899DA4D03D2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убъекты мировых хозяйственных отношений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корпорации (ТНК) и их долгосрочные альянс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ба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нансово-промышленные группы — объединение ТНК и ТНБ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ржи (особенно крупные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упные предпринимател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а, и приравненные к ним территории, а также административные единицы данных государств и территорий; Мировые финансовые и экономические организации (включая крупных инвесторов и организации-объединения крупных компаний, занимающиеся контролем определенных международных рынков, объединения стран внутри региона — СНГ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94172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ст мировой экономики за 2005 год составил 4,4 %. Суммарный ВВП всех стран составил на конец 2005 года — 43,07 трлн долл. США в номинальном выражении. В среднем ВВП на душу населения составляет около 9500 долл. (ППП) на человека. Сейчас в мире насчитывается около 30 тысяч транснациональных корпораций и около 300 тысяч их филиал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E3A3-5DB8-4F00-86FD-3F05BAB2A3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E43A9-4A94-456F-955C-E993B0B7389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907920"/>
            <a:ext cx="77724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развитая инфраструктур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наличие политических решений правительства (создание условий для интеграции – политическая и экономическая база);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421000"/>
          <a:ext cx="7848360" cy="3963960"/>
        </p:xfrm>
        <a:graphic>
          <a:graphicData uri="http://schemas.openxmlformats.org/drawingml/2006/table">
            <a:tbl>
              <a:tblPr/>
              <a:tblGrid>
                <a:gridCol w="2057400"/>
                <a:gridCol w="5790960"/>
              </a:tblGrid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п интег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она свободной торговл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соглашения, когда участники договариваются о снятии таможенных тарифов и квот в отношении друг друга. При этом к третьим странам – у каждого своя политика. Примеры: НАФТА, ЕЭС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моженны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ое устранение препятствий для перемещений всех факторов производства между странами-участницами. В процессе решения находятся такие вопросы, как: полное согласование экономической политики и т.д., выравнивание экономических показателе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260280"/>
            <a:ext cx="80805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Условия и типы интеграции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9BB-1AB2-4DF7-9532-7F3D41C39B0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C1835-B317-419E-B2D5-571745D74E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24000" y="304920"/>
          <a:ext cx="8819640" cy="7086240"/>
        </p:xfrm>
        <a:graphic>
          <a:graphicData uri="http://schemas.openxmlformats.org/drawingml/2006/table">
            <a:tbl>
              <a:tblPr/>
              <a:tblGrid>
                <a:gridCol w="2122920"/>
                <a:gridCol w="669672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номически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никает на этапе высокого экономического развития. Проводится согласованная (или даже единая) экономическая политика и на этой основе идет снятие всех препятствий. Создаются межгосударственные (надгосударственные) органы. Идут крупные экономические преобразования во всех странах-участницах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лютный союз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экономического союза и одновременно его крупная составляющая. Характерными чертами валютного союза являются: 1) согласованное (совместное) плавание национальных валют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) установление по соглашению фиксированных валютных курсов, которые целенаправленно поддерживаются Центробанками стран-участниц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) создание единой региональной валюты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) формирование единого регионального банка, являющегося эмиссионным центром этой международной валютной единицы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ая экономическая интеграц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диная экономическая политика и, как следствие, унификация законодательной базы. Условия: 1) общая налоговая система; 2) наличие единых стандартов; 3) единое трудовое законодательство и т.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04DF-4CF1-45A8-83C0-4D6722918DA9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42110-1C05-4B65-B4ED-B39BB722B5B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341360"/>
            <a:ext cx="820908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правление экономической мы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VI-XVII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., видным представителем которого был Т.Манн (1571-1641) изучали проблемы внешней торгов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кантилисты полагали, что внешняя торговля необходима стране для накопления золота, которое считалось главным источником богатства наци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иток золота в страну обеспечивается, если вывоз товаров, за которые государство получает золото, будет больше ввоза, за который надлежит расплачиваться благородным метал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этому меркантилисты выступали за расширение экспорта и всемерное ограничение импор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4365720"/>
            <a:ext cx="3024000" cy="2236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ркантилизм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76E-9776-4D9C-A359-0986BFE0D35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2A5BE-CD41-421D-9A09-3F5ADBAEC60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ам Смит выдвинул теорию мировой торговли, обосновав необходимость либерализации импорта и ослабления таможенных ограничений. Подход Смита получил наз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052640"/>
            <a:ext cx="74041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АБСОЛЮТНОГО 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773360"/>
            <a:ext cx="8496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ждая страна должна специализироваться на производстве товар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ние издержки которых меньш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ем средние издержки в других стран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бсолютное преимущество по какому-либо товару определяется наделенностью соответствующими ресурсами. Экспортируя часть товаров, на вырученные деньги страна приобретает товары, в производстве которых преимущество у другой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476244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463-D37F-48DB-96D4-D6204A14EC47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063CF-B86A-4C6A-9A51-EC853BBDD6F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16000" y="404640"/>
            <a:ext cx="6819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СРАВНИТЕЛЬНОГ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1557360"/>
            <a:ext cx="698508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НА  ДОЛЖНА  СПЕЦИАЛИЗИРОВАТЬСЯ 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УСКЕ  ТОВАРОВ,  ПРОИЗВОДСТВО  КОТОР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НОСИТЕЛЬНО  БОЛЕЕ  ВЫГОДНО  В  СОПОСТАВЛЕН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 ПРОИЗВОДСТВОМ  ТАКИХ  ЖЕ  ТОВАРОВ  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ГИХ   СТРАН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5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сравнительного преимущества Д.Рикардо впоследствии развили другие  экономисты, которые распространили его на всю совокупность факторов производства, включая капитал. Страны экспортируют те товары, на производство которых идут факторы, имеющиеся в относительном избытке и поэтому относительно дешевые (рабочая сила в развивающихся странах дешевая, страны экспортируют трудоемкие товары, а импортируют наукоемкую продукцию, так собственное их производство потребовало бы относительно больших затрат в связи с нехваткой капитала и квалифицированного труд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9DC8-62DD-4444-94AA-24C5BB9D66DD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9F44C-DF69-4727-8954-C7ED0B9901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1:11Z</dcterms:created>
  <dc:creator>Надежда</dc:creator>
  <dc:description/>
  <dc:language>en-US</dc:language>
  <cp:lastModifiedBy>Надежда</cp:lastModifiedBy>
  <dcterms:modified xsi:type="dcterms:W3CDTF">2009-12-14T12:20:20Z</dcterms:modified>
  <cp:revision>6</cp:revision>
  <dc:subject/>
  <dc:title>Международная торгов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